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13.png" ContentType="image/png"/>
  <Override PartName="/ppt/media/image11.jpeg" ContentType="image/jpeg"/>
  <Override PartName="/ppt/media/image5.jpeg" ContentType="image/jpeg"/>
  <Override PartName="/ppt/media/image8.jpeg" ContentType="image/jpeg"/>
  <Override PartName="/ppt/media/image23.png" ContentType="image/png"/>
  <Override PartName="/ppt/media/image21.png" ContentType="image/png"/>
  <Override PartName="/ppt/media/image4.png" ContentType="image/png"/>
  <Override PartName="/ppt/media/image19.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A29DA-CE0E-4FF9-A21B-254F5900E5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7560B-ED6D-4520-ADA3-8B46E83F19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F9EE7-994C-4FF9-98E0-C80B8887C4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5ED7C-31FE-42E4-AFD7-89FAA94AC9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DE5B6-1ED8-4739-9D6A-5F50795451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0DF3A-02BC-4DA4-A9DC-3C1CEB9CB6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7C766-A7AB-4316-A45A-970B909959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5D3EA-6796-4A8A-BDA6-AFCEFA0940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7E565-AAA5-4AB3-9633-9A26AE5D56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8E12A-0268-4326-8278-047299268B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2F951-F4A5-46D6-930B-DF1EE126FD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77D02-671A-43C3-B00E-38FBAC454F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F015E-DF3B-4A81-A797-05E94764A8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C61C2-7041-4902-872F-555C79DE6D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3B74B-CA0C-49E2-AB74-C3429EA98F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AB6ED-F437-448F-96B8-D8F026366D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F9862-5AC1-4D95-80D0-B0C4FE3BCB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EC248-027B-4FF0-993B-3734C81F67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070E3-CA34-47D5-82CD-1FC5E5E5D1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3A12B-FC70-4068-83E3-FB7C95AFEA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880FA-DA89-43B5-8F01-EA1F90DB49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08E23-BBE3-4679-A0B3-0E6F888667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68049-E5B6-4033-8E5C-27D38CA38A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05824-D1AC-40C6-A812-C050F2CDD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5E427-D692-4D11-83E0-3EEB8E8C13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3DDFB-359D-4FE7-944E-7882F45E77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E27B6-AB80-498A-9966-88AD454AF6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32D0B-58E6-4997-AAB5-AF78C3C000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1EDAB-839B-4E40-820A-744722905D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EFF8E-11AB-48C2-9CAE-E2776C3ABE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94655-5CEC-4200-B774-EDAE72D2FB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6E8A6-5061-4CA5-B644-AA87C3BF17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E3B14-1DCF-4C6D-BB58-2CDB1B2055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FC44B-C134-475D-AB7F-4D5B0C8BE5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F9CD6-3371-4B42-9992-3342F3795F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D6A23-1206-4F7E-932B-B3B6B1EE46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AD6C1F-0905-4E5A-A402-D772863922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3BF47-824A-43CC-98B9-E58D594A7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F3E298-1A97-4A8D-B6D4-06D4D541F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E6DF50-0107-482A-A0FD-E66516CB7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AB60EC-D123-4A4A-BB8C-46A7B71A8C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30920-6F3A-409B-899E-2135A43C98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A9C668-3600-4D16-B2D2-63C42A3653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6D656F-C9EE-4D33-8DED-E5ED32F1E1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23472F-DA13-4E58-BA2B-F2A8728502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4AD0D2-3FD3-48A4-908D-17BFBFE438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E2E48-B668-4F1C-A854-4C4AB2670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DFDE7-9AC4-499E-A83B-09251CBC0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23005-D2E2-4E45-BE9C-0FFD3F2DB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66FF3-C1DF-4C2E-9201-8A93C1089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672190-1128-4C91-BE49-8E9FD4C13C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549FC4-9406-4F27-A8B3-2E40301004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FC0AEB-46CB-4377-AA61-AE3675966B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A80815-04AE-4D84-A503-64E8A0B3F8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6A1C9E-328D-44BC-8011-FBC1D83105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83175A-9B0A-4290-ACAC-FBF48463AC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5FC641-B225-4F11-902E-7415404CF9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EC240B-2B26-46B1-AB50-2E9817D129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B6667-A29E-4E36-931C-5D28C9BBC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A31D06-8F37-43BE-8F15-F558814988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C567D3-39D0-41FA-930C-CC00C8C418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A70744-A4F9-46C5-AB9B-8BFD9723B7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ACAC47-C419-437A-8E8C-80341D4CD0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ECFBE3-F49B-4066-999F-6C96A3C670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8DAB95-4BD5-476D-89E0-BF2CC05432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E3CDF8-63BC-4140-BB70-B61EFA4EC1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BFB6F9-D331-4709-A6AC-04AD2D7A31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5C8418-CEE0-469E-B2DC-2ED706A44D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20362B-71DA-48D7-A928-AD45C2D364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97793-BE22-4F27-BEF0-358F03982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9DA5FF-9A94-4097-B093-497948BF2D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07FF3A-1BEA-45BE-BEDC-9D1EFD3D96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B1112C-3208-4ACD-8976-C5EC26A8D2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D1C0B1-DA3D-47AA-9826-0A18ED6ADF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91D70E-CA67-41D4-8F63-9B3894E6DB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0606ED-D1C6-4138-B467-A2AF1EF282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C88E5B-FB68-4E9D-B1A7-5DEDC8DE7A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F9DB64-3C90-4B79-B0E0-C3DF488B60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8B1813-335C-4628-9F56-B2A64995FB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E56D9D-9D2F-4441-A1FA-9B185B7C19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7AC3A-4D55-44BD-A977-91A94277A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C17867-8CEE-432E-A074-AF5E7C0369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EF9797-B8DF-4693-841A-D00B7DEF20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079532-C111-4BCA-8FFC-EC3CBE9FCA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07A47F-0982-4B63-A015-58EA30D122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32CC0D-3FF3-4403-B66F-13BF41A4EE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1B70EF-C186-4648-BC0E-BA67531B96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9810FC-5171-4C76-97A0-D3221259D5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28AD27-99EF-4DBF-A916-395F80C713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D4D778-13D7-4F79-9E9C-6C7DC6703C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8B9661-F9CC-4C6E-B784-F43F792BF9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5D2EB-6C92-4AD7-A629-2044371BA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E031AF-94C1-4AC1-9C85-3BA06B7C26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A3F9A4-10AA-4AEF-A51C-5991F17501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144782-2169-401F-81CF-BF227046A0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31EF31-C057-49AF-AD29-1249E49F3E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6F13C9-FC77-43E1-BEEF-5DD5ED47CE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76654F-122E-4C99-B516-525D357EF9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52C58B-8EDB-4C92-B5EC-97741CD6B0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F050FA-B53B-4328-86AB-CBA586F67F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1ACFB2-0A1D-4D1A-93A1-8007905365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C74A9A-C319-4390-A11B-37BB200684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41A72-06C9-4326-9376-A4DABF827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1BE182-F204-4DA1-8B50-5E56F262D7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AB8197-9645-452F-BD62-A26397CED0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A5D31B-AD9D-4334-8649-EFAA0098D0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29B0A1-0E48-4633-9D18-7A7F0A5E18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867719-56EA-4789-84C9-0C5BDF023A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94C769-A923-4AFF-95D5-53073245EA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6DA5F8-6511-487E-9FCB-372C9CA354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5A45E2-D762-4B44-8E34-F9B6B7ECB3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951BB4-AA6E-4889-94B0-62A4FB0590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A5486E-8AD1-4E2B-8207-C9279DFFDA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022DA-7E1C-4934-9A7C-B0259FAFD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671BAE-C334-4779-8862-016180DF7F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8FC1EC-D273-4ADC-ACD5-613702353C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60EA27-C214-4A30-8337-DF460E267E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876E8D-45EA-42F9-904C-248A50D34C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BEDECF-2052-43D0-8D52-E1D3FA5A56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A88D7D-C997-4675-8325-5EF1C3CBC3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28904A-1788-428C-906F-194D820680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26C9E0-9BE2-4632-A198-37EA652CC6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807AFE-9EAC-4520-A68A-D6CBCA9F11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920B7E-13A5-40A2-923D-C6E6F88D37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15441-2A6D-4C4D-A822-0F16B5EFC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AA57E3-551A-49FE-B9A0-A6843458C1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AD1101-96F4-4868-A649-46725D064B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86B7C4-8F9E-435D-A941-000738AF04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A9E07C-E47D-4F9C-86C6-A146CDAFC4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A220FD-F770-4025-B00C-E2E3F56192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9F93722-CFDD-420E-8E1F-8F6A061450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59D214-75BB-4AB6-B223-7071CFAA2DB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838F3-58B0-4C9A-9EDC-66AF05CCCF11}"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5"/>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8"/>
            <p:cNvGrpSpPr/>
            <p:nvPr/>
          </p:nvGrpSpPr>
          <p:grpSpPr>
            <a:xfrm>
              <a:off x="2520" y="4992120"/>
              <a:ext cx="9141480" cy="1872360"/>
              <a:chOff x="2520" y="4992120"/>
              <a:chExt cx="9141480" cy="1872360"/>
            </a:xfrm>
          </p:grpSpPr>
          <p:pic>
            <p:nvPicPr>
              <p:cNvPr id="52" name="Freeform 18"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19"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80129-032E-42CD-9FAD-D963135D2D43}"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D8EB0-9326-4EF0-B8CE-AE4E7E03D52F}"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01C1B-54A4-45B3-89DD-FEA52267FA7A}"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15AF1-DEB9-4D3F-AC0B-0C5654D4D40C}"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14301-C33D-4785-BEDC-017DDEA1469A}"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EAA0F-0D78-4CE5-ABF9-3A232E30C2B1}"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5"/>
          <p:cNvGrpSpPr/>
          <p:nvPr/>
        </p:nvGrpSpPr>
        <p:grpSpPr>
          <a:xfrm>
            <a:off x="-12600" y="5784840"/>
            <a:ext cx="3414600" cy="1092240"/>
            <a:chOff x="-12600" y="5784840"/>
            <a:chExt cx="3414600" cy="1092240"/>
          </a:xfrm>
        </p:grpSpPr>
        <p:pic>
          <p:nvPicPr>
            <p:cNvPr id="324" name="Right Triangle 15"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6" descr=""/>
          <p:cNvPicPr/>
          <p:nvPr/>
        </p:nvPicPr>
        <p:blipFill>
          <a:blip r:embed="rId4"/>
          <a:stretch/>
        </p:blipFill>
        <p:spPr>
          <a:xfrm>
            <a:off x="-19080" y="5772240"/>
            <a:ext cx="3421080" cy="1109520"/>
          </a:xfrm>
          <a:prstGeom prst="rect">
            <a:avLst/>
          </a:prstGeom>
          <a:ln w="0">
            <a:noFill/>
          </a:ln>
        </p:spPr>
      </p:pic>
      <p:sp>
        <p:nvSpPr>
          <p:cNvPr id="327"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DEE21-7908-45C0-B480-31F3823F7C3C}"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2560" y="1731960"/>
            <a:ext cx="8137440" cy="185904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64646"/>
              </a:solidFill>
              <a:latin typeface="Lucida Sans Unicode"/>
            </a:endParaRPr>
          </a:p>
        </p:txBody>
      </p:sp>
      <p:sp>
        <p:nvSpPr>
          <p:cNvPr id="379" name="TextBox 4"/>
          <p:cNvSpPr/>
          <p:nvPr/>
        </p:nvSpPr>
        <p:spPr>
          <a:xfrm>
            <a:off x="1258920" y="260280"/>
            <a:ext cx="6553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Lucida Sans Unicode"/>
              </a:rPr>
              <a:t>АКУТНИ МОЖДАНИ ОРГАНСКИ ПСИХОСИНДРО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lobalni poremećaj kognicije (perceptivni poremećaji, oštećenje apstraktnog mišljenja i shvatanja sa ili bez prolaznih sumanutosti, ali tipično sa izvesnim stepenom nekoherentnosti, oštećenje neposrednog sećanja i pamćenja svežih događaja, ali sa relativno očuvanim pamćenjem ranijih događaja i dezorijentracija u vremenu a u težim slučajevima u prostoru i prema drugim osobam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sihomotorni poremećaji (hipo ili hiperaktivnost, povećano reakciono vreme, povećani ili sniženi tok govora)</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oremećaj ciklusa spavanje-budnost (insomnija ili obrnuti ciklus spavanje-budnost, uznemirujući snovi ili košmari koji se mogu nastaviti kao halucinacije posle buđenja)</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mocionalni poremećaji (depresija, anksioznost, strah, razdražljivost, euforija, apatija ili zbunjenost).</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Lucida Sans Unicode"/>
              </a:rPr>
              <a:t>Finalni uobičajeni put za nastanak delirijuma smatra se da je posledica</a:t>
            </a:r>
            <a:endParaRPr b="0" lang="en-US" sz="27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Lucida Sans Unicode"/>
              </a:rPr>
              <a:t>preteranog otpuštanja dopamina</a:t>
            </a:r>
            <a:endParaRPr b="0" lang="en-US" sz="27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Lucida Sans Unicode"/>
              </a:rPr>
              <a:t>manjak u sintezi acetilholina</a:t>
            </a:r>
            <a:endParaRPr b="0" lang="en-US" sz="27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Lucida Sans Unicode"/>
              </a:rPr>
              <a:t>visoki i niski nivoi serotonina i GABA-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5"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stiče udeo indukovanih citokina stresom</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terleukin (IL) -1</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L – 6</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terferon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fa tumorskog markera nekroze </a:t>
            </a:r>
            <a:r>
              <a:rPr b="0" lang="el-GR" sz="2700" spc="-1" strike="noStrike">
                <a:solidFill>
                  <a:srgbClr val="000000"/>
                </a:solidFill>
                <a:latin typeface="Lucida Sans Unicode"/>
              </a:rPr>
              <a:t>α</a:t>
            </a:r>
            <a:r>
              <a:rPr b="0" lang="en-US" sz="2700" spc="-1" strike="noStrike">
                <a:solidFill>
                  <a:srgbClr val="000000"/>
                </a:solidFill>
                <a:latin typeface="Lucida Sans Unicode"/>
              </a:rPr>
              <a:t>TNF</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lirijum kao – disbalans neurotransmitera na terenu zapaljenja</a:t>
            </a:r>
            <a:endParaRPr b="0" lang="en-US" sz="2700" spc="-1" strike="noStrike">
              <a:solidFill>
                <a:srgbClr val="000000"/>
              </a:solidFill>
              <a:latin typeface="Lucida Sans Unicode"/>
            </a:endParaRPr>
          </a:p>
        </p:txBody>
      </p:sp>
      <p:pic>
        <p:nvPicPr>
          <p:cNvPr id="407"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Lucida Sans Unicode"/>
              </a:rPr>
              <a:t>prema kome dijagnozu delirijuma možemo postaviti ukoliko pacijent ima pozitivna prva tri i jedan od poslednja dva kriterijuma.</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Lucida Sans Unicode"/>
              </a:rPr>
              <a:t>1. akutni početak promena mentalnog statusa,</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Lucida Sans Unicode"/>
              </a:rPr>
              <a:t>2. fluktuirajući tok</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Lucida Sans Unicode"/>
              </a:rPr>
              <a:t>3. poremećaj pažnje</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Lucida Sans Unicode"/>
              </a:rPr>
              <a:t>4. dezorganizovano mišljenje</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Lucida Sans Unicode"/>
              </a:rPr>
              <a:t>5. izmenjeno stanje svesti</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Lucida Sans Unicode"/>
              </a:rPr>
              <a:t>I lekari netrenirani u psihijatrijskom smislu mogu koristiti ove skale, odgovarajući na potrebna pitanja. Ovakav način definisanja delirijuma ima visoku senzitivnost (94-100%) i specifičnost od 90-95%).</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09" name="Title 2" descr=""/>
          <p:cNvPicPr/>
          <p:nvPr/>
        </p:nvPicPr>
        <p:blipFill>
          <a:blip r:embed="rId1"/>
          <a:stretch/>
        </p:blipFill>
        <p:spPr>
          <a:xfrm>
            <a:off x="298440" y="85680"/>
            <a:ext cx="8394840" cy="1451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Lucida Sans Unicode"/>
              </a:rPr>
              <a:t>(1) AKUTNI POČETAK MENTALNIH PROMENA I FLUKTUIRAJUĆI TOK</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Lucida Sans Unicode"/>
              </a:rPr>
              <a:t>Da li postoji podatak o akutnoj promeni mentalnog statusa u odnosu na bazično stanje?</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Lucida Sans Unicode"/>
              </a:rPr>
              <a:t>(2) FLUKTUIRANJE SIMPTOMA</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Lucida Sans Unicode"/>
              </a:rPr>
              <a:t>Da li je izmenjeno ponašanje fluktiralo poslednja 24 časa, osnono da li postoji podatak o izmeni težine promene ponašanja?</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Lucida Sans Unicode"/>
              </a:rPr>
              <a:t>(3) PAŽNJA</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Lucida Sans Unicode"/>
              </a:rPr>
              <a:t>Da li pacijent ima problem da fokusira pažnju?</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Lucida Sans Unicode"/>
              </a:rPr>
              <a:t>Da li postoji umanjena sposobnost da održi ili prebacuje pažnju sa jednog intere­snog događaja na drugi?</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Lucida Sans Unicode"/>
              </a:rPr>
              <a:t>(4) DEZORGANIZOVANO MIŠLJENJE</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Lucida Sans Unicode"/>
              </a:rPr>
              <a:t>Da li je pacijentovo mišljenje dezorganizovano i nekoherentno, kao što je nebitna konverzacija, nelogičan i nejasan pritok ideja, nepredviljivo prelaženje sa jednog događaja ili teme na drugu?</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Lucida Sans Unicode"/>
              </a:rPr>
              <a:t>(5) IZMENJENO STANJE SVESTI</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Lucida Sans Unicode"/>
              </a:rPr>
              <a:t>Da li je pacient u stanju da prati naredbe za vreme pregleda? </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1. IZMENJENI KRVOTOK MOZG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Hipotenzij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Hipertenzij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Aritmij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Bradikardij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Kardijalna insuficijencij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Šok</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Hiperviskozitet</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3"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Trauma mozga</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Epilepsija i postiktalna stanja</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Infekcije</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Meningiti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Apsce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Encefaliti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Neurosifili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Tumor</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Cerebralni vaskulitis</a:t>
            </a:r>
            <a:r>
              <a:rPr b="1" lang="sr-Latn-RS" sz="2300" spc="-1" strike="noStrike">
                <a:solidFill>
                  <a:srgbClr val="000000"/>
                </a:solidFill>
                <a:latin typeface="Lucida Sans Unicode"/>
              </a:rPr>
              <a:t>, </a:t>
            </a:r>
            <a:r>
              <a:rPr b="1" lang="hr-HR" sz="2300" spc="-1" strike="noStrike">
                <a:solidFill>
                  <a:srgbClr val="000000"/>
                </a:solidFill>
                <a:latin typeface="Lucida Sans Unicode"/>
              </a:rPr>
              <a:t>paraneoplastički i limbički vaskuliti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Infarkt</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Subduralni hematom</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Subarahnoidalno krvavljenje</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15"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Hipofiz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aratireoide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Tireoide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Nadbubreg</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7" name="Title 2" descr=""/>
          <p:cNvPicPr/>
          <p:nvPr/>
        </p:nvPicPr>
        <p:blipFill>
          <a:blip r:embed="rId1"/>
          <a:stretch/>
        </p:blipFill>
        <p:spPr>
          <a:xfrm>
            <a:off x="225360" y="92160"/>
            <a:ext cx="8467920" cy="1828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Hepatička encefalopatij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Uremij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Hipoksija, hipokapnij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Hipo ili hiperglikemij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Hipo i hipernatremij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Hipo i hiperkalemij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Akutni pankreatitis</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Hipo </a:t>
            </a:r>
            <a:r>
              <a:rPr b="1" lang="sr-Latn-RS" sz="1900" spc="-1" strike="noStrike">
                <a:solidFill>
                  <a:srgbClr val="000000"/>
                </a:solidFill>
                <a:latin typeface="Lucida Sans Unicode"/>
              </a:rPr>
              <a:t>i</a:t>
            </a:r>
            <a:r>
              <a:rPr b="1" lang="en-US" sz="1900" spc="-1" strike="noStrike">
                <a:solidFill>
                  <a:srgbClr val="000000"/>
                </a:solidFill>
                <a:latin typeface="Lucida Sans Unicode"/>
              </a:rPr>
              <a:t> hiperkalcemij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Hipo </a:t>
            </a:r>
            <a:r>
              <a:rPr b="1" lang="sr-Latn-RS" sz="1900" spc="-1" strike="noStrike">
                <a:solidFill>
                  <a:srgbClr val="000000"/>
                </a:solidFill>
                <a:latin typeface="Lucida Sans Unicode"/>
              </a:rPr>
              <a:t>i</a:t>
            </a:r>
            <a:r>
              <a:rPr b="1" lang="en-US" sz="1900" spc="-1" strike="noStrike">
                <a:solidFill>
                  <a:srgbClr val="000000"/>
                </a:solidFill>
                <a:latin typeface="Lucida Sans Unicode"/>
              </a:rPr>
              <a:t> hipermagnezemij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Hipo </a:t>
            </a:r>
            <a:r>
              <a:rPr b="1" lang="sr-Latn-RS" sz="1900" spc="-1" strike="noStrike">
                <a:solidFill>
                  <a:srgbClr val="000000"/>
                </a:solidFill>
                <a:latin typeface="Lucida Sans Unicode"/>
              </a:rPr>
              <a:t>i</a:t>
            </a:r>
            <a:r>
              <a:rPr b="1" lang="en-US" sz="1900" spc="-1" strike="noStrike">
                <a:solidFill>
                  <a:srgbClr val="000000"/>
                </a:solidFill>
                <a:latin typeface="Lucida Sans Unicode"/>
              </a:rPr>
              <a:t> hiperfosfatemij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Hiperosmolarna stanj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Porfirij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Deficit tiamin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Malnutricij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Poremećaj acido-bazne ravnoteže</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419" name="Title 2" descr=""/>
          <p:cNvPicPr/>
          <p:nvPr/>
        </p:nvPicPr>
        <p:blipFill>
          <a:blip r:embed="rId1"/>
          <a:stretch/>
        </p:blipFill>
        <p:spPr>
          <a:xfrm>
            <a:off x="225360" y="122400"/>
            <a:ext cx="8467920" cy="130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6" descr=""/>
          <p:cNvPicPr/>
          <p:nvPr/>
        </p:nvPicPr>
        <p:blipFill>
          <a:blip r:embed="rId1"/>
          <a:stretch/>
        </p:blipFill>
        <p:spPr>
          <a:xfrm>
            <a:off x="0" y="1241280"/>
            <a:ext cx="9144000" cy="4375440"/>
          </a:xfrm>
          <a:prstGeom prst="rect">
            <a:avLst/>
          </a:prstGeom>
          <a:ln w="0">
            <a:noFill/>
          </a:ln>
        </p:spPr>
      </p:pic>
      <p:pic>
        <p:nvPicPr>
          <p:cNvPr id="381" name="Title 1" descr=""/>
          <p:cNvPicPr/>
          <p:nvPr/>
        </p:nvPicPr>
        <p:blipFill>
          <a:blip r:embed="rId2"/>
          <a:stretch/>
        </p:blipFill>
        <p:spPr>
          <a:xfrm>
            <a:off x="212760" y="328680"/>
            <a:ext cx="8493120" cy="1079280"/>
          </a:xfrm>
          <a:prstGeom prst="rect">
            <a:avLst/>
          </a:prstGeom>
          <a:ln w="0">
            <a:noFill/>
          </a:ln>
        </p:spPr>
      </p:pic>
      <p:sp>
        <p:nvSpPr>
          <p:cNvPr id="382" name=""/>
          <p:cNvSpPr txBox="1"/>
          <p:nvPr/>
        </p:nvSpPr>
        <p:spPr>
          <a:xfrm>
            <a:off x="-360" y="1916280"/>
            <a:ext cx="8675640" cy="43732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000000"/>
                </a:solidFill>
                <a:latin typeface="Baskerville Old Face"/>
              </a:rPr>
              <a:t>Учесталост</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АМС</a:t>
            </a:r>
            <a:r>
              <a:rPr b="0" lang="sr-Latn-CS" sz="2800" spc="-1" strike="noStrike">
                <a:solidFill>
                  <a:srgbClr val="000000"/>
                </a:solidFill>
                <a:latin typeface="Baskerville Old Face"/>
              </a:rPr>
              <a:t>-</a:t>
            </a:r>
            <a:r>
              <a:rPr b="0" lang="sr-BA" sz="2800" spc="-1" strike="noStrike">
                <a:solidFill>
                  <a:srgbClr val="000000"/>
                </a:solidFill>
                <a:latin typeface="Baskerville Old Face"/>
              </a:rPr>
              <a:t>а</a:t>
            </a:r>
            <a:r>
              <a:rPr b="0" lang="sr-Latn-CS" sz="2800" spc="-1" strike="noStrike">
                <a:solidFill>
                  <a:srgbClr val="000000"/>
                </a:solidFill>
                <a:latin typeface="Baskerville Old Face"/>
              </a:rPr>
              <a:t> </a:t>
            </a:r>
            <a:r>
              <a:rPr b="0" lang="sr-BA" sz="2800" spc="-1" strike="noStrike">
                <a:solidFill>
                  <a:srgbClr val="000000"/>
                </a:solidFill>
                <a:latin typeface="Baskerville Old Face"/>
              </a:rPr>
              <a:t>у</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општим</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болницама</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износи</a:t>
            </a:r>
            <a:r>
              <a:rPr b="0" lang="sr-Latn-CS" sz="2800" spc="-1" strike="noStrike">
                <a:solidFill>
                  <a:srgbClr val="000000"/>
                </a:solidFill>
                <a:latin typeface="Baskerville Old Face"/>
              </a:rPr>
              <a:t> 5 – 15 %</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000000"/>
                </a:solidFill>
                <a:latin typeface="Baskerville Old Face"/>
              </a:rPr>
              <a:t>Учесталост</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АМС</a:t>
            </a:r>
            <a:r>
              <a:rPr b="0" lang="sr-Latn-CS" sz="2800" spc="-1" strike="noStrike">
                <a:solidFill>
                  <a:srgbClr val="000000"/>
                </a:solidFill>
                <a:latin typeface="Baskerville Old Face"/>
              </a:rPr>
              <a:t>-</a:t>
            </a:r>
            <a:r>
              <a:rPr b="0" lang="sr-BA" sz="2800" spc="-1" strike="noStrike">
                <a:solidFill>
                  <a:srgbClr val="000000"/>
                </a:solidFill>
                <a:latin typeface="Baskerville Old Face"/>
              </a:rPr>
              <a:t>а</a:t>
            </a:r>
            <a:r>
              <a:rPr b="0" lang="sr-Latn-CS" sz="2800" spc="-1" strike="noStrike">
                <a:solidFill>
                  <a:srgbClr val="000000"/>
                </a:solidFill>
                <a:latin typeface="Baskerville Old Face"/>
              </a:rPr>
              <a:t> </a:t>
            </a:r>
            <a:r>
              <a:rPr b="0" lang="sr-BA" sz="2800" spc="-1" strike="noStrike">
                <a:solidFill>
                  <a:srgbClr val="000000"/>
                </a:solidFill>
                <a:latin typeface="Baskerville Old Face"/>
              </a:rPr>
              <a:t>у</a:t>
            </a:r>
            <a:r>
              <a:rPr b="0" lang="sr-Latn-CS" sz="2800" spc="-1" strike="noStrike">
                <a:solidFill>
                  <a:srgbClr val="000000"/>
                </a:solidFill>
                <a:latin typeface="Baskerville Old Face"/>
              </a:rPr>
              <a:t> </a:t>
            </a:r>
            <a:r>
              <a:rPr b="0" lang="sr-BA" sz="2800" spc="-1" strike="noStrike">
                <a:solidFill>
                  <a:srgbClr val="000000"/>
                </a:solidFill>
                <a:latin typeface="Baskerville Old Face"/>
              </a:rPr>
              <a:t>ЈИН</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на</a:t>
            </a:r>
            <a:r>
              <a:rPr b="0" lang="sr-Latn-CS" sz="2800" spc="-1" strike="noStrike">
                <a:solidFill>
                  <a:srgbClr val="000000"/>
                </a:solidFill>
                <a:latin typeface="Baskerville Old Face"/>
              </a:rPr>
              <a:t> </a:t>
            </a:r>
            <a:r>
              <a:rPr b="0" lang="sr-BA" sz="2800" spc="-1" strike="noStrike">
                <a:solidFill>
                  <a:srgbClr val="000000"/>
                </a:solidFill>
                <a:latin typeface="Baskerville Old Face"/>
              </a:rPr>
              <a:t>хирушким</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одељењима</a:t>
            </a:r>
            <a:r>
              <a:rPr b="0" lang="sr-Latn-CS" sz="2800" spc="-1" strike="noStrike">
                <a:solidFill>
                  <a:srgbClr val="000000"/>
                </a:solidFill>
                <a:latin typeface="Baskerville Old Face"/>
              </a:rPr>
              <a:t> </a:t>
            </a:r>
            <a:r>
              <a:rPr b="0" lang="sr-BA" sz="2800" spc="-1" strike="noStrike">
                <a:solidFill>
                  <a:srgbClr val="000000"/>
                </a:solidFill>
                <a:latin typeface="Baskerville Old Face"/>
              </a:rPr>
              <a:t>је</a:t>
            </a:r>
            <a:r>
              <a:rPr b="0" lang="sr-Latn-CS" sz="2800" spc="-1" strike="noStrike">
                <a:solidFill>
                  <a:srgbClr val="000000"/>
                </a:solidFill>
                <a:latin typeface="Baskerville Old Face"/>
              </a:rPr>
              <a:t> 18 – 30 %</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000000"/>
                </a:solidFill>
                <a:latin typeface="Baskerville Old Face"/>
              </a:rPr>
              <a:t>Учесталост</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АМС</a:t>
            </a:r>
            <a:r>
              <a:rPr b="0" lang="sr-Latn-CS" sz="2800" spc="-1" strike="noStrike">
                <a:solidFill>
                  <a:srgbClr val="000000"/>
                </a:solidFill>
                <a:latin typeface="Baskerville Old Face"/>
              </a:rPr>
              <a:t>-</a:t>
            </a:r>
            <a:r>
              <a:rPr b="0" lang="sr-BA" sz="2800" spc="-1" strike="noStrike">
                <a:solidFill>
                  <a:srgbClr val="000000"/>
                </a:solidFill>
                <a:latin typeface="Baskerville Old Face"/>
              </a:rPr>
              <a:t>а</a:t>
            </a:r>
            <a:r>
              <a:rPr b="0" lang="sr-Latn-CS" sz="2800" spc="-1" strike="noStrike">
                <a:solidFill>
                  <a:srgbClr val="000000"/>
                </a:solidFill>
                <a:latin typeface="Baskerville Old Face"/>
              </a:rPr>
              <a:t> </a:t>
            </a:r>
            <a:r>
              <a:rPr b="0" lang="sr-BA" sz="2800" spc="-1" strike="noStrike">
                <a:solidFill>
                  <a:srgbClr val="000000"/>
                </a:solidFill>
                <a:latin typeface="Baskerville Old Face"/>
              </a:rPr>
              <a:t>у</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коронарним</a:t>
            </a:r>
            <a:r>
              <a:rPr b="0" lang="sr-Latn-CS" sz="2800" spc="-1" strike="noStrike">
                <a:solidFill>
                  <a:srgbClr val="000000"/>
                </a:solidFill>
                <a:latin typeface="Baskerville Old Face"/>
              </a:rPr>
              <a:t> </a:t>
            </a:r>
            <a:r>
              <a:rPr b="0" lang="sr-BA" sz="2800" spc="-1" strike="noStrike">
                <a:solidFill>
                  <a:srgbClr val="000000"/>
                </a:solidFill>
                <a:latin typeface="Baskerville Old Face"/>
              </a:rPr>
              <a:t>ЈИН</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износи</a:t>
            </a:r>
            <a:r>
              <a:rPr b="0" lang="sr-Latn-CS" sz="2800" spc="-1" strike="noStrike">
                <a:solidFill>
                  <a:srgbClr val="000000"/>
                </a:solidFill>
                <a:latin typeface="Baskerville Old Face"/>
              </a:rPr>
              <a:t> 2 – 20 %</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000000"/>
                </a:solidFill>
                <a:latin typeface="Baskerville Old Face"/>
              </a:rPr>
              <a:t>Учесталост</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АМС</a:t>
            </a:r>
            <a:r>
              <a:rPr b="0" lang="sr-Latn-CS" sz="2800" spc="-1" strike="noStrike">
                <a:solidFill>
                  <a:srgbClr val="000000"/>
                </a:solidFill>
                <a:latin typeface="Baskerville Old Face"/>
              </a:rPr>
              <a:t>-</a:t>
            </a:r>
            <a:r>
              <a:rPr b="0" lang="sr-BA" sz="2800" spc="-1" strike="noStrike">
                <a:solidFill>
                  <a:srgbClr val="000000"/>
                </a:solidFill>
                <a:latin typeface="Baskerville Old Face"/>
              </a:rPr>
              <a:t>а</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после</a:t>
            </a:r>
            <a:r>
              <a:rPr b="0" lang="sr-Latn-CS" sz="2800" spc="-1" strike="noStrike">
                <a:solidFill>
                  <a:srgbClr val="000000"/>
                </a:solidFill>
                <a:latin typeface="Baskerville Old Face"/>
              </a:rPr>
              <a:t> </a:t>
            </a:r>
            <a:r>
              <a:rPr b="0" lang="sr-BA" sz="2800" spc="-1" strike="noStrike">
                <a:solidFill>
                  <a:srgbClr val="000000"/>
                </a:solidFill>
                <a:latin typeface="Baskerville Old Face"/>
              </a:rPr>
              <a:t>хирушких</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захвата</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на</a:t>
            </a:r>
            <a:r>
              <a:rPr b="0" lang="sr-Latn-CS" sz="2800" spc="-1" strike="noStrike">
                <a:solidFill>
                  <a:srgbClr val="000000"/>
                </a:solidFill>
                <a:latin typeface="Baskerville Old Face"/>
              </a:rPr>
              <a:t> </a:t>
            </a:r>
            <a:r>
              <a:rPr b="0" lang="sr-BA" sz="2800" spc="-1" strike="noStrike">
                <a:solidFill>
                  <a:srgbClr val="000000"/>
                </a:solidFill>
                <a:latin typeface="Baskerville Old Face"/>
              </a:rPr>
              <a:t>срцу</a:t>
            </a:r>
            <a:r>
              <a:rPr b="0" lang="sr-Latn-CS" sz="2800" spc="-1" strike="noStrike">
                <a:solidFill>
                  <a:srgbClr val="000000"/>
                </a:solidFill>
                <a:latin typeface="Baskerville Old Face"/>
              </a:rPr>
              <a:t> </a:t>
            </a:r>
            <a:r>
              <a:rPr b="0" lang="sr-BA" sz="2800" spc="-1" strike="noStrike">
                <a:solidFill>
                  <a:srgbClr val="000000"/>
                </a:solidFill>
                <a:latin typeface="Baskerville Old Face"/>
              </a:rPr>
              <a:t>је</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и</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до</a:t>
            </a:r>
            <a:r>
              <a:rPr b="0" lang="sr-Latn-CS" sz="2800" spc="-1" strike="noStrike">
                <a:solidFill>
                  <a:srgbClr val="000000"/>
                </a:solidFill>
                <a:latin typeface="Baskerville Old Face"/>
              </a:rPr>
              <a:t> 30 % </a:t>
            </a:r>
            <a:endParaRPr b="0" lang="en-US" sz="2800" spc="-1" strike="noStrike">
              <a:solidFill>
                <a:srgbClr val="000000"/>
              </a:solidFill>
              <a:latin typeface="Lucida Sans Unicode"/>
            </a:endParaRPr>
          </a:p>
        </p:txBody>
      </p:sp>
      <p:sp>
        <p:nvSpPr>
          <p:cNvPr id="383" name="TextBox 5"/>
          <p:cNvSpPr/>
          <p:nvPr/>
        </p:nvSpPr>
        <p:spPr>
          <a:xfrm>
            <a:off x="571680" y="3143160"/>
            <a:ext cx="7643520" cy="36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5. SISTEMSKA INFEKCIJA SA TEMPERATUROM I SEPSOM</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6. TROVANJ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Ugljen monoksi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Ugljen disulfi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Organski rastvarači</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Teški metali</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7. STANJA KOD KOMPROMITOVANIH BOLESNIK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Bilo koja infekcija (čak i lokaln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farkt miokard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lućna embolij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erforacija abdominalnih organ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ostoperativna stanja</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0" y="620640"/>
            <a:ext cx="8686800" cy="53863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700" spc="-1" strike="noStrike">
                <a:solidFill>
                  <a:srgbClr val="000000"/>
                </a:solidFill>
                <a:latin typeface="Lucida Sans Unicode"/>
              </a:rPr>
              <a:t>Posebne probleme u diferencijalnoj dijagnozi delirijuma čini njegovo razlikovanje od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700" spc="-1" strike="noStrike">
                <a:solidFill>
                  <a:srgbClr val="000000"/>
                </a:solidFill>
                <a:latin typeface="Lucida Sans Unicode"/>
              </a:rPr>
              <a:t>	</a:t>
            </a:r>
            <a:r>
              <a:rPr b="0" i="1" lang="hr-HR" sz="2700" spc="-1" strike="noStrike">
                <a:solidFill>
                  <a:srgbClr val="000000"/>
                </a:solidFill>
                <a:latin typeface="Lucida Sans Unicode"/>
              </a:rPr>
              <a:t>demencije,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700" spc="-1" strike="noStrike">
                <a:solidFill>
                  <a:srgbClr val="000000"/>
                </a:solidFill>
                <a:latin typeface="Lucida Sans Unicode"/>
              </a:rPr>
              <a:t>	</a:t>
            </a:r>
            <a:r>
              <a:rPr b="0" i="1" lang="hr-HR" sz="2700" spc="-1" strike="noStrike">
                <a:solidFill>
                  <a:srgbClr val="000000"/>
                </a:solidFill>
                <a:latin typeface="Lucida Sans Unicode"/>
              </a:rPr>
              <a:t>depresije,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700" spc="-1" strike="noStrike">
                <a:solidFill>
                  <a:srgbClr val="000000"/>
                </a:solidFill>
                <a:latin typeface="Lucida Sans Unicode"/>
              </a:rPr>
              <a:t>	</a:t>
            </a:r>
            <a:r>
              <a:rPr b="0" i="1" lang="hr-HR" sz="2700" spc="-1" strike="noStrike">
                <a:solidFill>
                  <a:srgbClr val="000000"/>
                </a:solidFill>
                <a:latin typeface="Lucida Sans Unicode"/>
              </a:rPr>
              <a:t>poremećaja govora,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700" spc="-1" strike="noStrike">
                <a:solidFill>
                  <a:srgbClr val="000000"/>
                </a:solidFill>
                <a:latin typeface="Lucida Sans Unicode"/>
              </a:rPr>
              <a:t>	</a:t>
            </a:r>
            <a:r>
              <a:rPr b="0" i="1" lang="hr-HR" sz="2700" spc="-1" strike="noStrike">
                <a:solidFill>
                  <a:srgbClr val="000000"/>
                </a:solidFill>
                <a:latin typeface="Lucida Sans Unicode"/>
              </a:rPr>
              <a:t>shizofrenije.</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dada"/>
        </a:solidFill>
      </p:bgPr>
    </p:bg>
    <p:spTree>
      <p:nvGrpSpPr>
        <p:cNvPr id="1" name=""/>
        <p:cNvGrpSpPr/>
        <p:nvPr/>
      </p:nvGrpSpPr>
      <p:grpSpPr>
        <a:xfrm>
          <a:off x="0" y="0"/>
          <a:ext cx="0" cy="0"/>
          <a:chOff x="0" y="0"/>
          <a:chExt cx="0" cy="0"/>
        </a:xfrm>
      </p:grpSpPr>
      <p:pic>
        <p:nvPicPr>
          <p:cNvPr id="425" name="Content Placeholder 3" descr="Dzin sa Uskrsnjih ostrva.jpg"/>
          <p:cNvPicPr/>
          <p:nvPr/>
        </p:nvPicPr>
        <p:blipFill>
          <a:blip r:embed="rId1"/>
          <a:stretch/>
        </p:blipFill>
        <p:spPr>
          <a:xfrm>
            <a:off x="3516480" y="1944720"/>
            <a:ext cx="2111040" cy="3598920"/>
          </a:xfrm>
          <a:prstGeom prst="rect">
            <a:avLst/>
          </a:prstGeom>
          <a:ln w="9360">
            <a:solidFill>
              <a:srgbClr val="0d0d0d"/>
            </a:solidFill>
            <a:miter/>
          </a:ln>
        </p:spPr>
      </p:pic>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retman delirantnog bolesnika ima dva važna i odvojena aspekta: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vi je kritičan i direktno je vezan za preživljavanje bolesnika: identifikacija i kad god je moguće otklanjanje uzroka delirijuma. Drugi aspekt tretmana je redukcija simptoma delirijuma pomoću medikamenata i manipulacijom sredinskim faktorima bez obzira na to da li su sumanutosti ili agitacija prisutni.</a:t>
            </a:r>
            <a:endParaRPr b="0" lang="en-US" sz="2700" spc="-1" strike="noStrike">
              <a:solidFill>
                <a:srgbClr val="000000"/>
              </a:solidFill>
              <a:latin typeface="Lucida Sans Unicode"/>
            </a:endParaRPr>
          </a:p>
        </p:txBody>
      </p:sp>
      <p:pic>
        <p:nvPicPr>
          <p:cNvPr id="428"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snovno pravilo je da se delirantni bolesnik mora staviti na 24h neprekidni nadzor tj. bolesnik mora biti smešten na intenzivnu negu. Ukoliko je neophodno ne treba izbegavati mere fizičke fiksacije bolesnika. Pri tome se vitalni znaci, unos tečnosti i diureza moraju kontrolisati. Takođe dobra oksigenacija bolesnika mora biti obezbeđena. </a:t>
            </a:r>
            <a:endParaRPr b="0" lang="en-US" sz="2700" spc="-1" strike="noStrike">
              <a:solidFill>
                <a:srgbClr val="000000"/>
              </a:solidFill>
              <a:latin typeface="Lucida Sans Unicode"/>
            </a:endParaRPr>
          </a:p>
        </p:txBody>
      </p:sp>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osebno treba pomenuti suportativne mere: konstantnu reorijentaciju bolesnika (uloga medicinskog osoblja ali i rodbin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Dobro osvetljenje sobe tokom noći može povoljno uticati na.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rozori u sobi pomažu u orijentaciji u vremenu. Iako delirantnog bolesnika nikada ne treba staviti u jednokrevetnu sobu česta greška je držanje više delirantnih bolesnika u istoj sobi. Reorijentacija u takvim slučajevima je mnogo teža a konfuzni bolesnici međusobno "podržavaju" distorziju realiteta. </a:t>
            </a:r>
            <a:endParaRPr b="0" lang="en-US" sz="2500" spc="-1" strike="noStrike">
              <a:solidFill>
                <a:srgbClr val="000000"/>
              </a:solidFill>
              <a:latin typeface="Lucida Sans Unicode"/>
            </a:endParaRPr>
          </a:p>
        </p:txBody>
      </p:sp>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sihološka podrška tokom i nakon delirantne epizode je važna. Prisustvo mirnog člana porodice može donekle smanjiti paranoidne ideje bolesnika. Nakon okončanja delirijuma neophodno je pomoći bolesniku da razume svoje bizarno iskustvo. Ovde je posebno potrebno istaći prolaznost delirijuma kao i učestalost delirijuma kod somatski obolelih bolesnika</a:t>
            </a:r>
            <a:endParaRPr b="0" lang="en-US" sz="2700" spc="-1" strike="noStrike">
              <a:solidFill>
                <a:srgbClr val="000000"/>
              </a:solidFill>
              <a:latin typeface="Lucida Sans Unicode"/>
            </a:endParaRPr>
          </a:p>
        </p:txBody>
      </p:sp>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d medikamenata lek prvog izbora je </a:t>
            </a:r>
            <a:r>
              <a:rPr b="0" lang="sr-Latn-CS" sz="2700" spc="-1" strike="noStrike">
                <a:solidFill>
                  <a:srgbClr val="000000"/>
                </a:solidFill>
                <a:latin typeface="Lucida Sans Unicode"/>
              </a:rPr>
              <a:t>РИСПЕРИДОН</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azlog je njegovo snažno antipsihotično dejstvo uz praktično odsustvo antiholinergičkih i hipotenzivnih dejstava. </a:t>
            </a:r>
            <a:r>
              <a:rPr b="0" lang="sr-Latn-CS" sz="2700" spc="-1" strike="noStrike">
                <a:solidFill>
                  <a:srgbClr val="000000"/>
                </a:solidFill>
                <a:latin typeface="Lucida Sans Unicode"/>
              </a:rPr>
              <a:t>РИСПЕРИДОН</a:t>
            </a:r>
            <a:r>
              <a:rPr b="0" lang="en-US" sz="2700" spc="-1" strike="noStrike">
                <a:solidFill>
                  <a:srgbClr val="000000"/>
                </a:solidFill>
                <a:latin typeface="Lucida Sans Unicode"/>
              </a:rPr>
              <a:t> je podjednako efikasan i kod hipo i kod hiperaktivnog oblika delirijuma.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000000"/>
                </a:solidFill>
                <a:latin typeface="Lucida Sans Unicode"/>
              </a:rPr>
              <a:t>Даје се у малим дозама до 2мг/д уз могућност повећања дозе у ретким случајевима уз опрез</a:t>
            </a:r>
            <a:endParaRPr b="0" lang="en-US" sz="2700" spc="-1" strike="noStrike">
              <a:solidFill>
                <a:srgbClr val="000000"/>
              </a:solidFill>
              <a:latin typeface="Lucida Sans Unicode"/>
            </a:endParaRPr>
          </a:p>
        </p:txBody>
      </p:sp>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ER O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TRAMUSKULARNO</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TRAVENSKI (nije odobreno od strane FDA)</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Za kontrolu teške agitacije i konfuzije ponekad je potrebna </a:t>
            </a:r>
            <a:r>
              <a:rPr b="0" lang="sr-Latn-CS" sz="2400" spc="-1" strike="noStrike">
                <a:solidFill>
                  <a:srgbClr val="000000"/>
                </a:solidFill>
                <a:latin typeface="Lucida Sans Unicode"/>
              </a:rPr>
              <a:t>primena </a:t>
            </a:r>
            <a:r>
              <a:rPr b="0" lang="en-US" sz="2400" spc="-1" strike="noStrike">
                <a:solidFill>
                  <a:srgbClr val="000000"/>
                </a:solidFill>
                <a:latin typeface="Lucida Sans Unicode"/>
              </a:rPr>
              <a:t>haloperidola</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Lucida Sans Unicode"/>
              </a:rPr>
              <a:t>Do 2 mg dnevno početno a retko i do 10mg/max.</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Lucida Sans Unicode"/>
              </a:rPr>
              <a:t>Parenteralno do 10mg dnevno i.m.</a:t>
            </a:r>
            <a:endParaRPr b="0" lang="en-US" sz="2400" spc="-1" strike="noStrike">
              <a:solidFill>
                <a:srgbClr val="000000"/>
              </a:solidFill>
              <a:latin typeface="Lucida Sans Unicode"/>
            </a:endParaRPr>
          </a:p>
          <a:p>
            <a:pPr marL="365040" indent="-255600" algn="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Fernandez et al. 1988; J.L. Levenson 1995;</a:t>
            </a:r>
            <a:endParaRPr b="0" lang="en-US" sz="1400" spc="-1" strike="noStrike">
              <a:solidFill>
                <a:srgbClr val="000000"/>
              </a:solidFill>
              <a:latin typeface="Lucida Sans Unicode"/>
            </a:endParaRPr>
          </a:p>
          <a:p>
            <a:pPr marL="365040" indent="-255600" algn="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Riker et al. 1994; Stern 1994.</a:t>
            </a:r>
            <a:endParaRPr b="0" lang="en-US" sz="1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8"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6" descr=""/>
          <p:cNvPicPr/>
          <p:nvPr/>
        </p:nvPicPr>
        <p:blipFill>
          <a:blip r:embed="rId1"/>
          <a:stretch/>
        </p:blipFill>
        <p:spPr>
          <a:xfrm>
            <a:off x="0" y="1241280"/>
            <a:ext cx="9144000" cy="4375440"/>
          </a:xfrm>
          <a:prstGeom prst="rect">
            <a:avLst/>
          </a:prstGeom>
          <a:ln w="0">
            <a:noFill/>
          </a:ln>
        </p:spPr>
      </p:pic>
      <p:pic>
        <p:nvPicPr>
          <p:cNvPr id="385" name="Rectangle 2" descr=""/>
          <p:cNvPicPr/>
          <p:nvPr/>
        </p:nvPicPr>
        <p:blipFill>
          <a:blip r:embed="rId2"/>
          <a:stretch/>
        </p:blipFill>
        <p:spPr>
          <a:xfrm>
            <a:off x="219240" y="268200"/>
            <a:ext cx="8474040" cy="1158840"/>
          </a:xfrm>
          <a:prstGeom prst="rect">
            <a:avLst/>
          </a:prstGeom>
          <a:ln w="0">
            <a:noFill/>
          </a:ln>
        </p:spPr>
      </p:pic>
      <p:sp>
        <p:nvSpPr>
          <p:cNvPr id="386" name="PlaceHolder 1"/>
          <p:cNvSpPr>
            <a:spLocks noGrp="1"/>
          </p:cNvSpPr>
          <p:nvPr>
            <p:ph/>
          </p:nvPr>
        </p:nvSpPr>
        <p:spPr>
          <a:xfrm>
            <a:off x="0" y="1599840"/>
            <a:ext cx="9144000" cy="52578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00"/>
                </a:solidFill>
                <a:latin typeface="Lucida Sans Unicode"/>
              </a:rPr>
              <a:t> </a:t>
            </a:r>
            <a:r>
              <a:rPr b="0" lang="sr-CS" sz="2400" spc="-1" strike="noStrike">
                <a:solidFill>
                  <a:srgbClr val="000000"/>
                </a:solidFill>
                <a:latin typeface="Arial"/>
              </a:rPr>
              <a:t>АМС је реакција мозга на ненормалне услове у којима функционише, тако да сви фактори који мењају односе у ЦНС-у могу бити потенцијални фактори његовог настанка.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Као најчешћи узрочници истичу се: физичке и хемијске ноксе, токсично деловање микроорганизама, поремећаји метаболизма и општа телесна обољења, као и оштећења ЦНС-а различите етиологије</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У процесу избијања психотичних симптома улогу играју: степен оштећења мозга, локализација и брзина деловања патолошког чиниоца, преморбидна личност, животна доб и стање одбрамбених снага организма оболелог           ( М. </a:t>
            </a:r>
            <a:r>
              <a:rPr b="0" lang="sr-Latn-CS" sz="2400" spc="-1" strike="noStrike">
                <a:solidFill>
                  <a:srgbClr val="000000"/>
                </a:solidFill>
                <a:latin typeface="Arial"/>
              </a:rPr>
              <a:t>Bleuler</a:t>
            </a:r>
            <a:r>
              <a:rPr b="0" lang="sr-CS" sz="2400" spc="-1" strike="noStrike">
                <a:solidFill>
                  <a:srgbClr val="000000"/>
                </a:solidFill>
                <a:latin typeface="Arial"/>
              </a:rPr>
              <a:t>, 1945)</a:t>
            </a:r>
            <a:endParaRPr b="0" lang="en-US" sz="24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d3d8"/>
        </a:solidFill>
      </p:bgPr>
    </p:bg>
    <p:spTree>
      <p:nvGrpSpPr>
        <p:cNvPr id="1" name=""/>
        <p:cNvGrpSpPr/>
        <p:nvPr/>
      </p:nvGrpSpPr>
      <p:grpSpPr>
        <a:xfrm>
          <a:off x="0" y="0"/>
          <a:ext cx="0" cy="0"/>
          <a:chOff x="0" y="0"/>
          <a:chExt cx="0" cy="0"/>
        </a:xfrm>
      </p:grpSpPr>
      <p:pic>
        <p:nvPicPr>
          <p:cNvPr id="439" name="Content Placeholder 3" descr="Optofon.jpg"/>
          <p:cNvPicPr/>
          <p:nvPr/>
        </p:nvPicPr>
        <p:blipFill>
          <a:blip r:embed="rId1"/>
          <a:stretch/>
        </p:blipFill>
        <p:spPr>
          <a:xfrm>
            <a:off x="1763640" y="1700280"/>
            <a:ext cx="5688000" cy="4176720"/>
          </a:xfrm>
          <a:prstGeom prst="rect">
            <a:avLst/>
          </a:prstGeom>
          <a:ln w="0">
            <a:noFill/>
          </a:ln>
        </p:spPr>
      </p:pic>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nzodiazepini su lekovi prvog izbora u tretmanu alkoholnog delirijum tremensa kao i delirijuma usled apstinencijalne krize na sedative/hipnotike. U svim ostalim slučajevima sedacija i blago oštećenje kognicije do koga dovode benzodiazepini može dodatno kompromitovati bolesnikov senzorijum ili dezinhibisati njegovo ponašanje. </a:t>
            </a:r>
            <a:endParaRPr b="0" lang="en-US" sz="2700" spc="-1" strike="noStrike">
              <a:solidFill>
                <a:srgbClr val="000000"/>
              </a:solidFill>
              <a:latin typeface="Lucida Sans Unicode"/>
            </a:endParaRPr>
          </a:p>
        </p:txBody>
      </p:sp>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Zbog toga uz gore navedene izuzetke benzodiazepini se ne preporučuju kao samostalni agensi u tretmanu delirijuma. Male doze intravenski administriranog lorazepama kao dodatak haloperidolu se posebno preporučuju kod krajnje agitiranih bolesnika ili bolesnika koji ne pokazuju zadovoljavajućI odgovor na administraciju haloperidola.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shod delirijuma je krajnje varijabilan. Mogućnosti su: progresija u sopor, komu i smr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azvoj epilepsij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azvoj encefalopatije ili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azbistravanje svesti i rezolucija simptomatologije.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a sreću većina bolesnika sa delirijumom pokazuje potpuni oporavak</a:t>
            </a:r>
            <a:endParaRPr b="0" lang="en-US" sz="2700" spc="-1" strike="noStrike">
              <a:solidFill>
                <a:srgbClr val="000000"/>
              </a:solidFill>
              <a:latin typeface="Lucida Sans Unicode"/>
            </a:endParaRPr>
          </a:p>
        </p:txBody>
      </p:sp>
      <p:pic>
        <p:nvPicPr>
          <p:cNvPr id="446"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pak, što je oboleli stariji mogućnost ovakvog ishoda je sve manja dok je razvoj erzistentnog kognitivnog defekta sve češćI ishod.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reba napomenuti da su kompilkacije kod delirantnih bolesnika pre pravilo nego izuzetak. Tako je Inouye pokazao da je rizik od komplikacija, poput nastanka dekubitusa ili aspiracione pneumonije kod ovih bolesnika čak 6 puta veći nego kod ostalih. </a:t>
            </a:r>
            <a:endParaRPr b="0" lang="en-US" sz="2700" spc="-1" strike="noStrike">
              <a:solidFill>
                <a:srgbClr val="000000"/>
              </a:solidFill>
              <a:latin typeface="Lucida Sans Unicode"/>
            </a:endParaRPr>
          </a:p>
        </p:txBody>
      </p:sp>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Konačno delirantni bolesnici tokom epizode delirijuma imaju čak 5.5 puta veću stopu mortaliteta nego bolesnici sa dijagnozom demencij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ažalost bolesnici koji prežive delirijum pokazuju visoku stopu smrtnosti i u narednim mesecima.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ipokrat opisuje delirijum 4 vek pre n.e. Marcus Aurelius Antoninus 2 vek n.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phrenitis  Stara Grčka, Rim</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pic>
        <p:nvPicPr>
          <p:cNvPr id="389" name="Picture 3" descr="Skica 1.jpg"/>
          <p:cNvPicPr/>
          <p:nvPr/>
        </p:nvPicPr>
        <p:blipFill>
          <a:blip r:embed="rId1"/>
          <a:stretch/>
        </p:blipFill>
        <p:spPr>
          <a:xfrm>
            <a:off x="2050920" y="3141720"/>
            <a:ext cx="5689800" cy="309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akutni moždani sindrom,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akutno konfuzno stanj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akutna infektivna psihoza,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akutna organska reakcija,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akutna organska psihoz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akutna sekundarna psihoz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akutni psihoorganski sindrom,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akutna demencij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reverzibilna demencija,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anchor="t">
            <a:normAutofit fontScale="98000"/>
          </a:bodyPr>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egzogena psihoza, </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sihoza jedinice intenzivne nege (Intensive care unit psychosis -ICU), </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ksično konfuzno stanje,</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tabolička encefalopatija, </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ksična encefalopatija, </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posttraumatska amnezija, </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reverzibilna cerebralna disfunkcija, </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disergatična reakcija, </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oniričko stanje...</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lirijum se opisuje kao " sindrom karakterisan istovremenim poremećajima svesti i pažnje, percepcije, mišljenja, pamćenja, psihomotornog ponašanja, emocija i ciklusa spavanje-budno stanje</a:t>
            </a:r>
            <a:endParaRPr b="0" lang="en-US" sz="2700" spc="-1" strike="noStrike">
              <a:solidFill>
                <a:srgbClr val="000000"/>
              </a:solidFill>
              <a:latin typeface="Lucida Sans Unicode"/>
            </a:endParaRPr>
          </a:p>
        </p:txBody>
      </p:sp>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 toku delirijuma se navodi da je reč o prolaznom stanju fluktuirajućeg intenziteta te da se najveći broj slučajeva oporavlja za četiri nedelje ili manje, iako nisu retki ni delirijumi koji traju sa fluktuacijama i do šest meseci. Pri tome se dugotrajan tok delirijuma naročito apostrofira kod hroničnih oboljenja jetre, karcinoma ili subakutnog bakterijskog endokarditisa</a:t>
            </a:r>
            <a:endParaRPr b="0" lang="en-US" sz="2700" spc="-1" strike="noStrike">
              <a:solidFill>
                <a:srgbClr val="000000"/>
              </a:solidFill>
              <a:latin typeface="Lucida Sans Unicode"/>
            </a:endParaRPr>
          </a:p>
        </p:txBody>
      </p:sp>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ama dijagnoza se postavlja na osnovu sledećih simptom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oremećaj svesti na kontinuumu od pomućenja svesti i pažnje do kome, snižena sposobnost upravljanja, fokusiranja, održavanja i prebacivanja pažnj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6T21:33:17Z</dcterms:created>
  <dc:creator>Srdjan</dc:creator>
  <dc:description/>
  <dc:language>en-US</dc:language>
  <cp:lastModifiedBy>Slavica</cp:lastModifiedBy>
  <dcterms:modified xsi:type="dcterms:W3CDTF">2020-09-28T11:53:35Z</dcterms:modified>
  <cp:revision>22</cp:revision>
  <dc:subject/>
  <dc:title>DELIRIJUM, DIJAGNOZA, DIFERENCIJALNA DIJAGNOZA, LEČENJE</dc:title>
</cp:coreProperties>
</file>